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6BC8-94CF-4C00-A8FD-ECCB654DB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C8BB-F164-49B9-9F42-9B42CEE35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9265-501D-4DAB-8C5B-7B29DF8EA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6B40-B264-4361-95CF-12B546481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6C06-94B9-4B54-B1C8-AC8D2EF0B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40E2-3345-44AE-8AAA-677AE919D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CE1E-6134-42A8-A6ED-607C10826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38B9-223F-4F4D-82FF-15E1744DE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63C0-E1CC-4E11-8EDA-ABDFBD53D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0786-D8ED-4D41-8486-C051C6EAE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048D-3B36-49C8-B757-B52CDD42A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3080-4EE7-4521-B46E-9D461CD1E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C72-089B-4D2F-849F-E5997ACB59C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4004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 2009 ESIP Federation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AA Data Users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ewardship at the NOAA Data Ce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9920" y="2209680"/>
            <a:ext cx="711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697"/>
                </a:solidFill>
                <a:latin typeface="Arial Black"/>
              </a:rPr>
              <a:t>Keeping P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697"/>
                </a:solidFill>
                <a:latin typeface="Arial Black"/>
              </a:rPr>
              <a:t>with Evolving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BBB9-D3BC-4672-9BD4-14A758686C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ientific Data Stewardship (SD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6934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 of Authoritative Long Term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ting all our data sources together, to understand today’s environment in the context of the pas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Quality Monitoring for Long Term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ly examining data quality from our unique, integrated, and long-term persp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Term Preservation of Data and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uring information survives and remains understandable to our children and beyo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rchaeology and Resc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, saving, ingesting, and restoring data from all over the 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nd Information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ing information to users and ensuring the feedback loop contributes to its continual improve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4680" y="1295280"/>
            <a:ext cx="990720" cy="4800600"/>
          </a:xfrm>
          <a:prstGeom prst="upArrow">
            <a:avLst>
              <a:gd name="adj1" fmla="val 50000"/>
              <a:gd name="adj2" fmla="val 12113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Level of Stewar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CC8C-F652-4E1A-8C60-AE0FF56EA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ientific Data Stewardship (SD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 how can NOAA keep pace with our evolving communiti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676520"/>
            <a:ext cx="6892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 areas are “static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involve communities, and communiti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0DEF-233C-4542-B395-F86CCABD12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eping 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IP Federa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ree Data Centers and our CLASS infrastructure are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more NOAA offices join?  If so, which on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Society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nt attendance, with both presentations and boo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ravel is expensive, and big meetings are challenging to cover by one or f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re better ways to stay abreast of scientific communit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6551-3D73-4C54-83CD-4A6A2958AF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eping 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 Team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ing broader, direct eng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involvement often leads to more readily preserved observations and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 many Team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many out there… software groups, observing systems, metadata communitie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ain, early and active engagement is benefic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how do we prioritiz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E19D-29FC-4AB0-BDD1-B4830826C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eping 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Services Requ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re revealing, and help us to underst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is there a more active approach we could us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7B7C-048C-4FC7-A9C8-778B8BDADE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3:50:47Z</dcterms:created>
  <dc:creator>Robert Reining</dc:creator>
  <dc:description/>
  <cp:keywords/>
  <dc:language>en-US</dc:language>
  <cp:lastModifiedBy>Ken Casey</cp:lastModifiedBy>
  <dcterms:modified xsi:type="dcterms:W3CDTF">2009-01-05T21:16:53Z</dcterms:modified>
  <cp:revision>6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